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3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09FF-462B-4E38-831D-B6F847D1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59F-FF0B-4EC0-BD09-3C710660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3987EA-B7E8-4A73-831A-914D40FF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F51D83-C3CE-42FD-B7C2-B4B19C02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628F47-A118-4B2A-BA57-19AA5752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551A82-94EE-4EAF-A0AB-A29D13A7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2BC188-8255-4EA7-958D-C8ADAF61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1BA1AB-F5B9-4CD0-B3C1-30AFD4D5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967AD0-C226-4AFD-B53B-1F77A76F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90A86F-641B-40A4-97AA-5B181309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2C8332-2DA0-4635-928B-12FF4A25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9D10-146F-4096-8E68-D379DCAA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2B9-5BD9-4754-B501-B6AB95DA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D728-9B0A-473B-96D4-5265430E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B0C2-E144-4561-B233-A1BE53C9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1FF5-AE06-49C7-8042-12711EAD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7C86-CF43-431C-B3DE-508F9F89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51DF-3C75-45D3-B09C-5ADFC1AC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DC48-CE4D-4B90-9159-F67624C3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992A-CD07-426C-8EA9-3E8070F7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3EA-0FA0-4E2F-A1F8-2178F801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126E-4315-4B09-AA02-25B9290F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2FE7-15F5-43B7-83CE-45F376AA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3349-E6C3-43F9-B7F8-679189B6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ABD8-EF61-47AA-A64C-F49592F0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E923-453D-4511-A448-1A73B92D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F9446-C668-42ED-AA08-8755D890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92626-4670-4916-AE5D-5EB0B0E0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E468D-0B79-44F5-A5B3-7D79B9F3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29454-4688-423C-9DF9-87D9CEA0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FC759-8A6B-403B-B87D-2D82B0F1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231-FC1A-4747-8265-6AC81E9E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D0B80-D16E-4824-8388-9A31314A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2D65E-E7E8-460A-9276-AC423DDF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34190-42C2-4CE1-8F70-207D057A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CE932-62E9-464D-853B-6E07AC87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62567-0B6A-404D-9524-2E71CDDC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776A9-AAB9-4803-94CD-0B597516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E3D29-9738-44DF-9093-06FC6081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899687-9272-427F-B0B7-A757895D35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A403E2-0F2C-40F5-A6AF-D0A6D4A2B6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69425D-1946-4CAC-AB95-BE7EA7484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433E-9DAE-489B-BE51-D81E6BBC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599417-7470-4A05-8C7C-262FCEB7E8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CDF651-F4F8-4737-BBCB-44744A4A590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427C4E-5A99-412A-8973-149AD3FD2BC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C3FD97-3246-482F-900E-CAD10D2D78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DBF896-F23D-43D3-99CB-6126AAC962A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920A17-64F7-4AE7-9B7E-8CC493A5D3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9EFF6-7AA5-4CE0-A4A7-7AF0DB211C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F26828-156F-4CC2-8703-E81DA4729D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7A8209-1D44-4885-9881-4BE81A5936C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B9ABC-7BD7-4709-AB78-1BFE173B3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B1B3-D327-4E08-AAC6-BD23FCE6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08261-B9D3-42B6-84E1-5E2DDA73053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8CF19-80EF-4854-912E-655E227DC5B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F1ADF-A69B-42DE-8511-A11FDD94580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6B570-695E-4965-95F5-351A019E56F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A7664-905D-436B-BB67-E492D4462C9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5FBEC-D0A5-4E1D-AABF-A9D05D604E3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F5642-12E7-41F9-9FE0-561A0801F44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042A0-400F-4D30-83F7-2B5B8C81443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6F056-3383-472F-BC5A-1A7D22AE867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96352-8B1B-48EB-8937-7EE6E7417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69E-FE77-4E51-A8CB-24060B45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938F6-DDC7-44D3-B3C7-E3F5F68E582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B73312-EDB8-425C-8792-027A3203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03A09F-CC92-45D2-9BB9-92F147CD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36E26F-80D0-48EE-BA06-7A6D9FB1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A47ACF-E8E1-4B9D-9AFE-FD2207B8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5436BD-AF78-46D4-A728-ED188F22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87734F-A584-4A9E-AE71-9FEF4829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FB9F79-E81E-4ED4-872D-08FE6A4E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54FD48-6C6F-44C0-934B-79ABE4D8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F96ACC-79D4-4870-8112-1F651B57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C24-B695-4335-A396-AD6DE11D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F9B0E1-1E9A-4E94-BD52-BC2ABBA3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9DA4A0-C851-478A-90AB-34FBD292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A3A010-ACA5-4682-B886-C3633935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5ECE0-E97C-4104-9C40-5CC91AD3284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17AE9-DE61-4893-BAE1-6C998999EFF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4BABA-13B7-4D0B-AA14-2B1A5820B50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6EC1E-82C2-425E-BBEF-F7DA8029EE9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65F1B-29BC-457C-9C8B-0095E8D5A8C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4D0A2-B036-498A-AAB4-2AB669C1A3B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5CFC2-A3F9-4DE0-8941-C760C7293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793E-D1F9-4728-B11F-C19122A4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814DB-DFFA-4696-AA99-8B35B2CA1D9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EB402-5D44-4593-8039-8B5DF61E4F9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2E1B5-0F91-42AD-B1C8-D9B5B638711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57F96-0CF9-4BF9-9250-B27E413EA17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F6355-9E1D-407D-B12E-99E63CD394F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54822E-AF58-47F3-9584-F8AAEC86E86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DE36CA-BDBC-4430-9B12-5DEA6332AE4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B59D15-642B-4E1A-B525-12F2D9FABB6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76402D-8088-45B2-9BB6-CFD84C62CAB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6181E8-5407-49B0-8ACE-88254AA5D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7D0F-C13D-48B3-99C8-4147D485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E99BC7-A32F-4201-A4A4-7F817CB5FBA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19CBB8-0BD2-4D08-9EF2-264692362D5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500E7D-6013-4A68-B686-C9231E84965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F4CBF2-55EF-416D-B6EB-4EDCDCFF6CA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34DB3B-A226-4050-94BB-223E115CDFF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693550-BD9C-4CFA-B2D4-A93ECB6D587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672C8F-2920-4F30-8A8F-5551E49FA98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26B1D0-FE94-4E92-99D5-355E6F98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941E42-AC77-4D9B-801C-93B2A1F6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2863D3-1359-4D29-B124-C91CA79B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8A9E-C91A-47D3-B17D-6EC07D01E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FB63-1ABB-461F-B1A2-7D5A056E7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67DD-F670-4F08-8E3D-3A47FEC4C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ftr" idx="10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1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6091D1C-F822-44C6-B147-CE7F88E77B8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Num" idx="1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F830124-0631-4369-904A-128628C3B3B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5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ftr" idx="13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1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dt" idx="1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AE57-D83C-4456-9206-2B405138E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6165720" y="6137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C H E C K P O I N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ftr" idx="17"/>
          </p:nvPr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ldNum" idx="1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07A371B-9106-4D8F-B546-8065C4420B4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6096240" y="6137280"/>
            <a:ext cx="30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ernational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/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380880" y="3049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CA P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10" descr="DecaPrepMedal"/>
          <p:cNvPicPr/>
          <p:nvPr/>
        </p:nvPicPr>
        <p:blipFill>
          <a:blip r:embed="rId3"/>
          <a:stretch/>
        </p:blipFill>
        <p:spPr>
          <a:xfrm>
            <a:off x="6934320" y="228600"/>
            <a:ext cx="1761840" cy="17463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CA5DE7B-EF1C-4C32-84AC-C31B357308F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685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9683CC6-82D6-4255-9DD0-6E6834AB63C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BE52-35D3-439F-83A8-454B02C528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w_4BTl4U_xlivM&amp;tbnid=mFmrQ4FAGOyrtM:&amp;ved=0CAUQjRw&amp;url=http%3A%2F%2Fwww.floridadiscountcoupons.com%2Fdiscount-ritas.htm&amp;ei=q1ifUYH2PMPz0gH2t4HwDg&amp;bvm=bv.47008514,d.dmQ&amp;psig=AFQjCNF5KXv1vOE-sI7XIxMFGX6ZRAAuRg&amp;ust=1369483813040485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3gI9ms8Fdc" TargetMode="External"/><Relationship Id="rId2" Type="http://schemas.openxmlformats.org/officeDocument/2006/relationships/hyperlink" Target="http://youtu.be/frXlYeflkt4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B9E0-7381-4E0E-9DDD-C47FE514BB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Promotion Unit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83808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pter 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ports &amp; Entertainment Pro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pter 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966E-C800-4EBA-9925-EE5CF4584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2 ~ Public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bl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unpa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dia at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ther positive or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ed on product, service or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Outs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Busi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paper Articles, TV News Stor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With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Busi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 Releases, Speeches, Community Involvement through service &amp; do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9C30-CCE7-4EFC-9121-1A8BE540D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31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ales promo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incentives offered f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imited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encourage consumers to buy a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Time Membershi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8 Hour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a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p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ems with company’s name printed on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S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380880" y="304920"/>
            <a:ext cx="83851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3 ~ Sales Promo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6" descr="http://www.floridadiscountcoupons.com/images/ritas_bogo_coup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4114800"/>
            <a:ext cx="3429000" cy="1500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E71A-881E-4285-B15D-4924DC306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4 ~ Personal Sell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onal s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-person, face-to-face communication between a seller and a cust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dor to business bu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rep to store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ail Clerk to Cust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6" descr=""/>
          <p:cNvPicPr/>
          <p:nvPr/>
        </p:nvPicPr>
        <p:blipFill>
          <a:blip r:embed="rId1"/>
          <a:stretch/>
        </p:blipFill>
        <p:spPr>
          <a:xfrm>
            <a:off x="6553080" y="4637160"/>
            <a:ext cx="2590920" cy="222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0379-0164-4E79-BAB6-960BECA29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4 ~ Personal Sell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diate attention to questions/hes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able Salesper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r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product/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comparisons to similar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personal experi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 questions and close the 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56840" y="2819520"/>
            <a:ext cx="8388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four elements of promo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S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228600"/>
            <a:ext cx="785664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8E16-2A25-4A53-848A-B4EA0D802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 Black"/>
              </a:rPr>
              <a:t>Lesson 10.2</a:t>
            </a:r>
            <a:br>
              <a:rPr sz="2000"/>
            </a:br>
            <a:r>
              <a:rPr b="1" lang="en-US" sz="4000" spc="-1" strike="noStrike">
                <a:solidFill>
                  <a:srgbClr val="990000"/>
                </a:solidFill>
                <a:latin typeface="Arial Black"/>
              </a:rPr>
              <a:t>Advertising and Placement 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and describe the steps involved in developing effective adverti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use of product plac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582F-020C-4A7F-ADC0-1A91B55ED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Opening Act ~ Page 26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how much it would cost to watch 10 episodes of your top 6 shows at a cost of $5 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 alternative ways production of TV programming could be fun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ys would be most appealing to TV view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541A-DF1F-4CDA-BE85-9746F3174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ertis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f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sumers about new products and services and helps consumers make comparisons among alterna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934320" y="5268960"/>
            <a:ext cx="2209680" cy="1589040"/>
          </a:xfrm>
          <a:prstGeom prst="rect">
            <a:avLst/>
          </a:prstGeom>
          <a:ln w="0">
            <a:noFill/>
          </a:ln>
        </p:spPr>
      </p:pic>
      <p:pic>
        <p:nvPicPr>
          <p:cNvPr id="459" name="Rectangle 5" descr=""/>
          <p:cNvPicPr/>
          <p:nvPr/>
        </p:nvPicPr>
        <p:blipFill>
          <a:blip r:embed="rId2"/>
          <a:stretch/>
        </p:blipFill>
        <p:spPr>
          <a:xfrm>
            <a:off x="334800" y="4479840"/>
            <a:ext cx="6731280" cy="2097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5EC7-11CC-4DE4-9966-FFD9E0B2C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Step by Step </a:t>
            </a:r>
            <a:r>
              <a:rPr b="1" lang="en-US" sz="1900" spc="-1" strike="noStrike">
                <a:solidFill>
                  <a:srgbClr val="99ff66"/>
                </a:solidFill>
                <a:latin typeface="Arial Black"/>
              </a:rPr>
              <a:t>(described more in next slides)</a:t>
            </a:r>
            <a:endParaRPr b="1" lang="en-US" sz="19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 advertising requi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a measurable advertising go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the advertising bud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n advertising the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the advertising me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the mess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n advertising schedu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2040" indent="-47484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the effectiveness of the advertis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526C-BA31-46AA-8971-6F3122466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1 ~ The G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.M.A.R.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cific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urable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tainable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listic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we want to accomplish???   With Detail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2 ~ The Bud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ginal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ing the advertising budget by estimating the point at which an additional dollar spent on advertising equals additional pro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79BA-4E98-45E2-97B3-30238DB842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ports &amp; Entertainment Promo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143000" y="39625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3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1 Promoting Sports &amp; Entertai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3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2 Advertising &amp; Plac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3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3 Publicity &amp; Sales Promo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895480" y="60948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6E76-D323-4EB2-B8FC-987C941CE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s a percentage of expected sales revenues to the advertising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 sum per u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dvertising budget based on the expected number of units to be s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itive p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to maintain the current share of v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of v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ing a similar dollar amount or frequency of advertising as that of competi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2 ~ The Budge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F802-DB6A-46F9-8074-071E4BC9F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83055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3 ~ The Th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gli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he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logan that conveys the main message of the a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#4 ~ The Me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newspaper, magazines, bags, billboard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cast/cabl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radio, TV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-of-home (billboards, stadium signs, radi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-home (TV, magaz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C3A9-C441-4AAA-83FB-204BDC8CB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761760" y="17521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 Mix selected is primarily based 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advertising budget and target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ing the media that will bring the most effective advertising message to the targeted consu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people in the target market expected to receive the message through the chosen 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68580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4 ~ The Media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95FA-C1C6-4F4B-BF9C-9A340576D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ords to be spoken or printed in the advertis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work, Photos, Video added to enhance viewers’ interest and grab their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ar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dvertising loses its effectiveness due to overexposure or poor message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5 ~ The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4DE2-CFB7-43E1-A375-0BD1052B3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times the targeted customer is exposed to the medi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ion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ying / relying on a single medi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inance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irm buys the maximum reach and frequency in one medium and purchases additional space in or time on other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6 ~ The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BFD6-3DF8-4CB1-9085-0B4FAB582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228240" y="17521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= Cr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d doesn’t meet our goal, it’s cost &amp; efforts were was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s shape and improve future advertising strateg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spons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customers who connect with and act in relation to the 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ed, complied, examined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38088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7~ The Effect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8A84-97AF-4A7F-875F-A4E89D65D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t’s Showti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Fall TV shows are “pitched” to ad firms before airing. (Spring meeting/present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 Firms buy time slots based on compatibility  of potential viewing audienc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ime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largest viewing audiences are watching T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st expens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ime to advert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ed based on expected audience ra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91B0-E02B-46EE-AD05-C99BFCBD9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nteractive 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advertising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ngage view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tivate them to take specific 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 communications can be used to create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teractive conn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potential customer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57E9-1A1B-4D17-83B6-8A152B57E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nteractive 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ntiac – contest to photograph new G6 with phones to enter for a chance to win $1 Millio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d people to look for G6 on the street, visit the dealership, attend the car show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publicity &amp; awar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Medias ran the story/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 Messaging &amp; Twitter Inte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s watching LIVE TV rather than recor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2BB0-7F58-45EF-A66E-CCEE97771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94920" y="2895120"/>
            <a:ext cx="7162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measurable go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bud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t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effectiveness (evalu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2"/>
          <p:cNvSpPr/>
          <p:nvPr/>
        </p:nvSpPr>
        <p:spPr>
          <a:xfrm>
            <a:off x="2514600" y="685800"/>
            <a:ext cx="6629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steps involved in developing effective adverti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7A82-9825-4FA4-B491-FDEAB4BFC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 Black"/>
              </a:rPr>
              <a:t>Lesson 10.1</a:t>
            </a:r>
            <a:br>
              <a:rPr sz="2000"/>
            </a:br>
            <a:r>
              <a:rPr b="1" lang="en-US" sz="4000" spc="-1" strike="noStrike">
                <a:solidFill>
                  <a:srgbClr val="990000"/>
                </a:solidFill>
                <a:latin typeface="Arial Black"/>
              </a:rPr>
              <a:t>Promoting Sports and Entertainment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2819160"/>
            <a:ext cx="80074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goals of pro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and define four elements of pro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9FD0-D85F-47FD-AFD8-80BC4107F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DUCT PLACE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 placement is a fast growing form of sales promotion used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ms (Mov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V sh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 th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 placement can be used to offset the need for traditional advertis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629400" y="289548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0C68-72BD-43F9-99DA-31CD6E2E9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Brainstor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97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x Network ~ Show “24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Free Episode included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3-minute ads by Ford Motor Compan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t beginning and end of show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Character, Jack Bauer, drives a Ford Expedition and other Fords are seen throughout the sh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other products have you se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ectly placed in Movies, TV or Thea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CDDB-21F1-419A-978C-85660811F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Who Pay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common ways that product placement deals might be constructed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e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rporation will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ay a fe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film’s producers for prominent product plac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very expensive product is needed, it may b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vided for 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film in exchange for the prominent display of the brand na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promotes movie in product advertising in exchange for product placement.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2E35-49BC-40C4-872E-DB141ECAC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6840" y="25909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ree ways product placement deals are constru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vious Sl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FCEB-A7BB-4364-81DC-CDC347298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 Black"/>
              </a:rPr>
              <a:t>Lesson 10.3</a:t>
            </a:r>
            <a:br>
              <a:rPr sz="2000"/>
            </a:br>
            <a:r>
              <a:rPr b="1" lang="en-US" sz="4000" spc="-1" strike="noStrike">
                <a:solidFill>
                  <a:srgbClr val="990000"/>
                </a:solidFill>
                <a:latin typeface="Arial Black"/>
              </a:rPr>
              <a:t>Publicity &amp; Sales Promotions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8007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publicity and explain its role in creating a positive public im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various types of sales promo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9E66-86F0-4D58-9504-4C2DE8963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UBLIC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hough publicity is free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ssage is controll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ws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 that are presenting the messag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a ver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motional too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have ver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934320" y="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B3DA-BD18-4431-9417-BB03CF4C5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Goodwil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’ positive feelings about the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ity Events, Marathons (Walks, 5K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nts - Pledge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Donations – for public acknowledgm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D079-6CBC-46DD-AC66-F0C108700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Damage Contr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blic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erson who is responsible for maintaining relations with the public and news med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mage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ttempt to refute, justify, or downplay negative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s to focus attention on more positive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51AA-E4AB-47C9-BA37-11606DFDB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Grass-Roots Public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ss-roots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n unknown person or event is propelled into the spotlight by fa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al campa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motion where a few online mentions turn into a real buzz about a mo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ls the movie into a mega hi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troturf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g a fake grass-roots effort (forced, fak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D340-5DB0-4207-958D-8A146AA37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Image is Everyth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blic relations (P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m of promotion that tries to create a favorable public opinion for an individual or organiz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the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relations focus on the future with the intent of creating a positive image of the busi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kesperson: must know the desired image and represent the company message, profession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9F8A-0702-4086-A85E-998AE6622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PURPOSE OF PROMO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of making customers aware of a product, service, or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rimary Goal = </a:t>
            </a:r>
            <a:r>
              <a:rPr b="1" i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INCREASE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ning new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uading customers to be loy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705720" y="22860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C913-0D63-40C3-8A93-3F95AFBCA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hletes &amp; Their Public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 athletes feel the pressure of being public role models while meeting athletic performance standa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 par performances = disappointing contr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ure can lead to immature, bad decisio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they do to keep a positive public image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ty involvement, Charities, etc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(positive-caring, giving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 Coverage  leads people to believe they are overpaid for their talents.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(Negative – greedy, thoughtles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85800" y="10666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36FF-803F-480C-9D82-EB63E3708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685800" y="10666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6" descr="http://t1.gstatic.com/images?q=tbn:ANd9GcSvG8AbujcaAkqrUajl3WExhGj6f8-Re228i9vSLsmj0BJmQty2"/>
          <p:cNvPicPr/>
          <p:nvPr/>
        </p:nvPicPr>
        <p:blipFill>
          <a:blip r:embed="rId1"/>
          <a:stretch/>
        </p:blipFill>
        <p:spPr>
          <a:xfrm>
            <a:off x="4952880" y="457200"/>
            <a:ext cx="3895920" cy="38955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8" descr="http://missourisportsmag.com/wp-content/uploads/2011/12/big_brothers_big_sisters_logo.jpg"/>
          <p:cNvPicPr/>
          <p:nvPr/>
        </p:nvPicPr>
        <p:blipFill>
          <a:blip r:embed="rId2"/>
          <a:stretch/>
        </p:blipFill>
        <p:spPr>
          <a:xfrm>
            <a:off x="228600" y="4191120"/>
            <a:ext cx="4495680" cy="2286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0" descr="http://ww1.prweb.com/prfiles/2008/12/05/281058/MarchOfDimesLogo.gif"/>
          <p:cNvPicPr/>
          <p:nvPr/>
        </p:nvPicPr>
        <p:blipFill>
          <a:blip r:embed="rId3"/>
          <a:stretch/>
        </p:blipFill>
        <p:spPr>
          <a:xfrm>
            <a:off x="4952880" y="4572000"/>
            <a:ext cx="3990960" cy="19051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2" descr="http://www.infobarrel.com/media/image/9471.jpg"/>
          <p:cNvPicPr/>
          <p:nvPr/>
        </p:nvPicPr>
        <p:blipFill>
          <a:blip r:embed="rId4"/>
          <a:stretch/>
        </p:blipFill>
        <p:spPr>
          <a:xfrm>
            <a:off x="228600" y="457200"/>
            <a:ext cx="4495680" cy="3556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FB04-589D-4F90-9BC0-541FE992C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Day Imag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ts facilities need to maintain a positive rep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llent service, cleanliness, saf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ts facilities and sports fans need to have a positive image to encourag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isi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attend game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cally helps area and te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d reputation: keeps people aw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685800" y="10666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2307-C19B-4372-B927-8489B832D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380520" y="25905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publicity different from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types of promo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ity is free exposure but not really controlled by the business or person receiving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o it can be negat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3218-0573-433F-8B79-DCD61E8EA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LES PROMO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es promotions are marketing efforts that o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 an additional incentive to bu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mited time motivator to make a purc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diate positive influence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reluctant potenti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s into buye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934320" y="526896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B3F3-3DF9-4805-9A7E-E7BBFDB86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66"/>
                </a:solidFill>
                <a:latin typeface="Arial Black"/>
              </a:rPr>
              <a:t>Consumer Sales Promotion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 sales promo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ed at the final consumer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orary price reductions         (1/2 price tick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ce-pack deals               (4 tickets + 4 hot do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pons                                           ( $  or  % of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gifts                         (posters, rally tow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sts                                            (offer priz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bates                                 (refund part of pr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A112-ECAE-4E95-B668-5140011F3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Trade Sales Promo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ad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sales pro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ed at members of the distribution channe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e allow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20400" indent="-406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er short-term discounts to distributors and retailers for selling or participating in the promotion of a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e con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20400" indent="-406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l the most, get a re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-of-purchase displ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20400" indent="-406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lay materials provided to help sell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E1A7-7976-4037-A621-628F67C87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Employee Sales Promo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800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sh 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xtra commission paid to sales persons who sell or push particular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an appliance manufacturer offers a bonus for selling a washer or dryer from a line that has been discontinu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7" descr="C:\Users\jsundlin\AppData\Local\Microsoft\Windows\Temporary Internet Files\Content.IE5\QHETRDYM\MC900440391[1].png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C196-7C50-465B-AB7F-2218B0D94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ree consumer sales promo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orary price reductions          (1/2 price tick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ce-pack deals               (4 tickets + 4 hot do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pons                                           ( $  or  % of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gifts                         (posters, rally tow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sts                                            (offer priz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bates                                 (refund part of pr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3" descr=""/>
          <p:cNvPicPr/>
          <p:nvPr/>
        </p:nvPicPr>
        <p:blipFill>
          <a:blip r:embed="rId1"/>
          <a:srcRect l="0" t="3232" r="0" b="0"/>
          <a:stretch/>
        </p:blipFill>
        <p:spPr>
          <a:xfrm>
            <a:off x="380880" y="457200"/>
            <a:ext cx="7856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F37A-8F5E-4F49-8237-44DC1DD72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Promotional Go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ed goal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customers’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ing customer loya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ing a fan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ng potential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coming the hesitation of first-time bu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C:\Users\jsundlin\AppData\Local\Microsoft\Windows\Temporary Internet Files\Content.IE5\N2PGMTO6\MC900199897[1].wmf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67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motional 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pricing / Special pri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y 1 Adult ticket, get child ticket ½ p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attendance, builds fan b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-time support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graded tickets, discount p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es loyalty with current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37AF-DF67-4326-9792-E1F952EC3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MOTIONAL ELEM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r elements of promotion 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promo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ling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(next 4 slides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rcRect l="30470" t="39588" r="44535" b="36462"/>
          <a:stretch/>
        </p:blipFill>
        <p:spPr>
          <a:xfrm>
            <a:off x="6629400" y="304920"/>
            <a:ext cx="220968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7913-45EE-4DD0-8333-61CD33A67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ff66"/>
                </a:solidFill>
                <a:latin typeface="Arial Black"/>
              </a:rPr>
              <a:t>#1 ~ Advertising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m of communication delivered by a product maker or seller to consu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Advertis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people’s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rly explain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 customers of WHERE they can get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sing can: take many forms, appear in almost any media and reach millions of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7" descr=""/>
          <p:cNvPicPr/>
          <p:nvPr/>
        </p:nvPicPr>
        <p:blipFill>
          <a:blip r:embed="rId1"/>
          <a:stretch/>
        </p:blipFill>
        <p:spPr>
          <a:xfrm>
            <a:off x="5303880" y="228600"/>
            <a:ext cx="384012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5CCF-1620-4C4C-A699-3A726D699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#1 ~ Adverti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duct 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duct integrated into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of a television show or a mov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cre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n 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uman Show – Commercials during show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vie Trailer -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youtube.com/watch?v=c3gI9ms8Fd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ke Commercials </a:t>
            </a:r>
            <a:r>
              <a:rPr b="0" lang="en-US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youtu.be/frXlYeflkt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(9:58-12: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6" descr="http://emerging-advertising-media.wikispaces.com/file/view/Movie-product-placement.jpg/101108179/Movie-product-placement.jpg"/>
          <p:cNvPicPr/>
          <p:nvPr/>
        </p:nvPicPr>
        <p:blipFill>
          <a:blip r:embed="rId3"/>
          <a:stretch/>
        </p:blipFill>
        <p:spPr>
          <a:xfrm>
            <a:off x="6705720" y="304920"/>
            <a:ext cx="2171520" cy="249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1:31:49Z</dcterms:created>
  <dc:creator> </dc:creator>
  <dc:description/>
  <dc:language>en-US</dc:language>
  <cp:lastModifiedBy>jsundlin</cp:lastModifiedBy>
  <dcterms:modified xsi:type="dcterms:W3CDTF">2013-05-24T15:14:05Z</dcterms:modified>
  <cp:revision>730</cp:revision>
  <dc:subject/>
  <dc:title>Chapter 11</dc:title>
</cp:coreProperties>
</file>